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8.jpeg" ContentType="image/jpeg"/>
  <Override PartName="/ppt/media/image9.jpeg" ContentType="image/jpe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1CE6D-38F5-4B7E-BF12-FB4E9FA67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B65EE-62BB-4FF2-AC73-6477EEDF8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8139C-4BA5-45D2-BB5A-9D9EDE201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94EBF-F125-4C53-B6A4-86F3FCFAD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3661D-126F-4813-AD90-46BC235A2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AB436-C563-43CC-A995-4C096A908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997C3-77BF-4045-9BC7-1927AFFA5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96B55-9C20-4F95-8CC1-3CC0FB8D0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A4FA7-D105-44FE-8328-2766A8A05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C16C3-5370-46FE-AC80-05DCDFB85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DAE1C-985A-4D47-8FE6-A672B6952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B2422-D6AB-411D-ADE7-93CEE6196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15340-4EEF-4B5A-B7CF-0DC2A22CC9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11.png"/><Relationship Id="rId5" Type="http://schemas.openxmlformats.org/officeDocument/2006/relationships/image" Target="../media/image5.jpe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image" Target="../media/image11.png"/><Relationship Id="rId9" Type="http://schemas.openxmlformats.org/officeDocument/2006/relationships/image" Target="../media/image5.jpeg"/><Relationship Id="rId10" Type="http://schemas.openxmlformats.org/officeDocument/2006/relationships/image" Target="../media/image5.jpeg"/><Relationship Id="rId11" Type="http://schemas.openxmlformats.org/officeDocument/2006/relationships/image" Target="../media/image5.jpeg"/><Relationship Id="rId12" Type="http://schemas.openxmlformats.org/officeDocument/2006/relationships/image" Target="../media/image11.png"/><Relationship Id="rId13" Type="http://schemas.openxmlformats.org/officeDocument/2006/relationships/image" Target="../media/image5.jpeg"/><Relationship Id="rId14" Type="http://schemas.openxmlformats.org/officeDocument/2006/relationships/image" Target="../media/image5.jpeg"/><Relationship Id="rId15" Type="http://schemas.openxmlformats.org/officeDocument/2006/relationships/image" Target="../media/image5.jpeg"/><Relationship Id="rId16" Type="http://schemas.openxmlformats.org/officeDocument/2006/relationships/image" Target="../media/image11.png"/><Relationship Id="rId1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2.png"/><Relationship Id="rId4" Type="http://schemas.openxmlformats.org/officeDocument/2006/relationships/hyperlink" Target="http://www.shkola-abv.ru/" TargetMode="External"/><Relationship Id="rId5" Type="http://schemas.openxmlformats.org/officeDocument/2006/relationships/hyperlink" Target="http://www.shkola-abv.ru/" TargetMode="External"/><Relationship Id="rId6" Type="http://schemas.openxmlformats.org/officeDocument/2006/relationships/hyperlink" Target="http://www.shkola-abv.ru/" TargetMode="External"/><Relationship Id="rId7" Type="http://schemas.openxmlformats.org/officeDocument/2006/relationships/hyperlink" Target="http://www.shkola-abv.ru/" TargetMode="External"/><Relationship Id="rId8" Type="http://schemas.openxmlformats.org/officeDocument/2006/relationships/hyperlink" Target="http://www.shkola-abv.ru/" TargetMode="External"/><Relationship Id="rId9" Type="http://schemas.openxmlformats.org/officeDocument/2006/relationships/hyperlink" Target="http://www.shkola-abv.ru/" TargetMode="External"/><Relationship Id="rId10" Type="http://schemas.openxmlformats.org/officeDocument/2006/relationships/hyperlink" Target="http://www.shkola-abv.ru/" TargetMode="External"/><Relationship Id="rId11" Type="http://schemas.openxmlformats.org/officeDocument/2006/relationships/hyperlink" Target="https://vk.com/shkola_abv" TargetMode="External"/><Relationship Id="rId12" Type="http://schemas.openxmlformats.org/officeDocument/2006/relationships/hyperlink" Target="https://vk.com/shkola_abv" TargetMode="External"/><Relationship Id="rId1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G:\01. Сайт .Архив\ИЗО и технология\Осенний лист с березками\afb5df9df43f4f157bb31811cd50cd60.jpg"/>
          <p:cNvPicPr/>
          <p:nvPr/>
        </p:nvPicPr>
        <p:blipFill>
          <a:blip r:embed="rId1"/>
          <a:srcRect l="0" t="6397" r="0" b="20030"/>
          <a:stretch/>
        </p:blipFill>
        <p:spPr>
          <a:xfrm>
            <a:off x="4859280" y="1584360"/>
            <a:ext cx="4033800" cy="50799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G:\01. Сайт .Архив\ИЗО и технология\Осенний лист с березками\6aee9cd1615b873f589f87e65454973e.jpg"/>
          <p:cNvPicPr/>
          <p:nvPr/>
        </p:nvPicPr>
        <p:blipFill>
          <a:blip r:embed="rId2"/>
          <a:stretch/>
        </p:blipFill>
        <p:spPr>
          <a:xfrm>
            <a:off x="539640" y="1628640"/>
            <a:ext cx="4037040" cy="5042160"/>
          </a:xfrm>
          <a:prstGeom prst="rect">
            <a:avLst/>
          </a:prstGeom>
          <a:ln w="0">
            <a:noFill/>
          </a:ln>
        </p:spPr>
      </p:pic>
      <p:sp>
        <p:nvSpPr>
          <p:cNvPr id="43" name="TextBox 3"/>
          <p:cNvSpPr/>
          <p:nvPr/>
        </p:nvSpPr>
        <p:spPr>
          <a:xfrm>
            <a:off x="1979640" y="404640"/>
            <a:ext cx="5545080" cy="82512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00000"/>
                </a:solidFill>
                <a:latin typeface="Comic Sans MS"/>
              </a:rPr>
              <a:t>Осенний листок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2" descr="G:\01. Сайт .Архив\ИЗО и технология\Осенний лист с березками\afb5df9df43f4f157bb31811cd50cd60.jpg"/>
          <p:cNvPicPr/>
          <p:nvPr/>
        </p:nvPicPr>
        <p:blipFill>
          <a:blip r:embed="rId3"/>
          <a:srcRect l="0" t="6397" r="0" b="20030"/>
          <a:stretch/>
        </p:blipFill>
        <p:spPr>
          <a:xfrm>
            <a:off x="4859280" y="1557360"/>
            <a:ext cx="4033800" cy="50799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" descr="G:\01. Сайт .Архив\ИЗО и технология\Осенний лист с березками\6aee9cd1615b873f589f87e65454973e.jpg"/>
          <p:cNvPicPr/>
          <p:nvPr/>
        </p:nvPicPr>
        <p:blipFill>
          <a:blip r:embed="rId4"/>
          <a:stretch/>
        </p:blipFill>
        <p:spPr>
          <a:xfrm>
            <a:off x="539640" y="1628640"/>
            <a:ext cx="4037040" cy="504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G:\01. Сайт .Архив\ИЗО и технология\Осенний лист с березками\afb5df9df43f4f157bb31811cd50cd60.jpg"/>
          <p:cNvPicPr/>
          <p:nvPr/>
        </p:nvPicPr>
        <p:blipFill>
          <a:blip r:embed="rId1"/>
          <a:srcRect l="0" t="6397" r="0" b="20030"/>
          <a:stretch/>
        </p:blipFill>
        <p:spPr>
          <a:xfrm>
            <a:off x="3635280" y="260280"/>
            <a:ext cx="4969080" cy="62611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3" descr="G:\01. Сайт .Архив\ИЗО и технология\Осенний лист с березками\e5a0d885b8a296cf677b3da6a819c102.jpg"/>
          <p:cNvPicPr/>
          <p:nvPr/>
        </p:nvPicPr>
        <p:blipFill>
          <a:blip r:embed="rId2"/>
          <a:stretch/>
        </p:blipFill>
        <p:spPr>
          <a:xfrm rot="1076400">
            <a:off x="1206000" y="1731960"/>
            <a:ext cx="1731960" cy="22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G:\01. Сайт .Архив\ИЗО и технология\Осенний лист с березками\1cd6f2b13ccece3e3d1f61dd5d2ec1ee.jpg"/>
          <p:cNvPicPr/>
          <p:nvPr/>
        </p:nvPicPr>
        <p:blipFill>
          <a:blip r:embed="rId1"/>
          <a:stretch/>
        </p:blipFill>
        <p:spPr>
          <a:xfrm>
            <a:off x="1619280" y="260280"/>
            <a:ext cx="6048360" cy="604836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G:\01. Сайт .Архив\ИЗО и технология\Осенний лист с березками\6aee9cd1615b873f589f87e65454973e.jpg"/>
          <p:cNvPicPr/>
          <p:nvPr/>
        </p:nvPicPr>
        <p:blipFill>
          <a:blip r:embed="rId1"/>
          <a:srcRect l="0" t="0" r="0" b="1453"/>
          <a:stretch/>
        </p:blipFill>
        <p:spPr>
          <a:xfrm>
            <a:off x="3924360" y="333360"/>
            <a:ext cx="4914720" cy="60483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https://fsd.kopilkaurokov.ru/uploads/user_file_5640ab80275f9/khimiialyk-rieaktsiialardyn-tiptieri_8.jpeg"/>
          <p:cNvPicPr/>
          <p:nvPr/>
        </p:nvPicPr>
        <p:blipFill>
          <a:blip r:embed="rId2"/>
          <a:srcRect l="6047" t="3067" r="10794" b="4929"/>
          <a:stretch/>
        </p:blipFill>
        <p:spPr>
          <a:xfrm rot="6188400">
            <a:off x="1008000" y="2174760"/>
            <a:ext cx="1749240" cy="19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G:\01. Сайт .Архив\ИЗО и технология\Осенний лист с березками\59023897065933077b9e4021137b4d19.jpg"/>
          <p:cNvPicPr/>
          <p:nvPr/>
        </p:nvPicPr>
        <p:blipFill>
          <a:blip r:embed="rId1"/>
          <a:stretch/>
        </p:blipFill>
        <p:spPr>
          <a:xfrm>
            <a:off x="4716360" y="333360"/>
            <a:ext cx="4251600" cy="619128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52" name="Picture 4" descr="https://fsd.kopilkaurokov.ru/uploads/user_file_5640ab80275f9/khimiialyk-rieaktsiialardyn-tiptieri_8.jpeg"/>
          <p:cNvPicPr/>
          <p:nvPr/>
        </p:nvPicPr>
        <p:blipFill>
          <a:blip r:embed="rId2"/>
          <a:srcRect l="6047" t="3067" r="10794" b="4929"/>
          <a:stretch/>
        </p:blipFill>
        <p:spPr>
          <a:xfrm rot="6188400">
            <a:off x="388080" y="354600"/>
            <a:ext cx="1439640" cy="15717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https://fsd.kopilkaurokov.ru/uploads/user_file_5640ab80275f9/khimiialyk-rieaktsiialardyn-tiptieri_8.jpeg"/>
          <p:cNvPicPr/>
          <p:nvPr/>
        </p:nvPicPr>
        <p:blipFill>
          <a:blip r:embed="rId3"/>
          <a:srcRect l="6047" t="3067" r="10794" b="4929"/>
          <a:stretch/>
        </p:blipFill>
        <p:spPr>
          <a:xfrm rot="6188400">
            <a:off x="2293200" y="442440"/>
            <a:ext cx="1677960" cy="18306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" descr="https://fsd.kopilkaurokov.ru/uploads/user_file_5640ab80275f9/khimiialyk-rieaktsiialardyn-tiptieri_8.jpeg"/>
          <p:cNvPicPr/>
          <p:nvPr/>
        </p:nvPicPr>
        <p:blipFill>
          <a:blip r:embed="rId4"/>
          <a:stretch/>
        </p:blipFill>
        <p:spPr>
          <a:xfrm rot="6188400">
            <a:off x="1733760" y="2112120"/>
            <a:ext cx="787680" cy="8589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" descr="G:\01. Сайт .Архив\ИЗО и технология\Осенний лист с березками\e5a0d885b8a296cf677b3da6a819c102.jpg"/>
          <p:cNvPicPr/>
          <p:nvPr/>
        </p:nvPicPr>
        <p:blipFill>
          <a:blip r:embed="rId5"/>
          <a:stretch/>
        </p:blipFill>
        <p:spPr>
          <a:xfrm rot="8474400">
            <a:off x="713880" y="2923920"/>
            <a:ext cx="1285920" cy="17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G:\01. Сайт .Архив\ИЗО и технология\Осенний лист с березками\8bd9cd261b29860344789006214159cc.jpg"/>
          <p:cNvPicPr/>
          <p:nvPr/>
        </p:nvPicPr>
        <p:blipFill>
          <a:blip r:embed="rId1"/>
          <a:stretch/>
        </p:blipFill>
        <p:spPr>
          <a:xfrm>
            <a:off x="4788000" y="476280"/>
            <a:ext cx="4128840" cy="598644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57" name="Picture 3" descr="G:\01. Сайт .Архив\ИЗО и технология\Осенний лист с березками\e5a0d885b8a296cf677b3da6a819c102.jpg"/>
          <p:cNvPicPr/>
          <p:nvPr/>
        </p:nvPicPr>
        <p:blipFill>
          <a:blip r:embed="rId2"/>
          <a:stretch/>
        </p:blipFill>
        <p:spPr>
          <a:xfrm rot="1690200">
            <a:off x="579240" y="249120"/>
            <a:ext cx="1584000" cy="2094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" descr="https://fsd.kopilkaurokov.ru/uploads/user_file_5640ab80275f9/khimiialyk-rieaktsiialardyn-tiptieri_8.jpeg"/>
          <p:cNvPicPr/>
          <p:nvPr/>
        </p:nvPicPr>
        <p:blipFill>
          <a:blip r:embed="rId3"/>
          <a:srcRect l="6047" t="3067" r="10794" b="4929"/>
          <a:stretch/>
        </p:blipFill>
        <p:spPr>
          <a:xfrm rot="6188400">
            <a:off x="2577240" y="335520"/>
            <a:ext cx="1144440" cy="12477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" descr="https://fsd.kopilkaurokov.ru/uploads/user_file_5640ab80275f9/khimiialyk-rieaktsiialardyn-tiptieri_8.jpeg"/>
          <p:cNvPicPr/>
          <p:nvPr/>
        </p:nvPicPr>
        <p:blipFill>
          <a:blip r:embed="rId4"/>
          <a:srcRect l="6047" t="3067" r="10794" b="4929"/>
          <a:stretch/>
        </p:blipFill>
        <p:spPr>
          <a:xfrm rot="6188400">
            <a:off x="2287800" y="1991520"/>
            <a:ext cx="1144800" cy="12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Группа 5"/>
          <p:cNvGrpSpPr/>
          <p:nvPr/>
        </p:nvGrpSpPr>
        <p:grpSpPr>
          <a:xfrm>
            <a:off x="720" y="0"/>
            <a:ext cx="2433600" cy="7029360"/>
            <a:chOff x="720" y="0"/>
            <a:chExt cx="2433600" cy="7029360"/>
          </a:xfrm>
        </p:grpSpPr>
        <p:pic>
          <p:nvPicPr>
            <p:cNvPr id="61" name="Picture 4" descr="https://fsd.kopilkaurokov.ru/uploads/user_file_5640ab80275f9/khimiialyk-rieaktsiialardyn-tiptieri_8.jpeg"/>
            <p:cNvPicPr/>
            <p:nvPr/>
          </p:nvPicPr>
          <p:blipFill>
            <a:blip r:embed="rId1"/>
            <a:srcRect l="6047" t="3067" r="10794" b="4929"/>
            <a:stretch/>
          </p:blipFill>
          <p:spPr>
            <a:xfrm rot="6188400">
              <a:off x="253440" y="114840"/>
              <a:ext cx="1748880" cy="190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Picture 4" descr="https://fsd.kopilkaurokov.ru/uploads/user_file_5640ab80275f9/khimiialyk-rieaktsiialardyn-tiptieri_8.jpeg"/>
            <p:cNvPicPr/>
            <p:nvPr/>
          </p:nvPicPr>
          <p:blipFill>
            <a:blip r:embed="rId2"/>
            <a:srcRect l="6047" t="3067" r="10794" b="4929"/>
            <a:stretch/>
          </p:blipFill>
          <p:spPr>
            <a:xfrm rot="6188400">
              <a:off x="432720" y="2103840"/>
              <a:ext cx="1748880" cy="190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Picture 4" descr="https://fsd.kopilkaurokov.ru/uploads/user_file_5640ab80275f9/khimiialyk-rieaktsiialardyn-tiptieri_8.jpeg"/>
            <p:cNvPicPr/>
            <p:nvPr/>
          </p:nvPicPr>
          <p:blipFill>
            <a:blip r:embed="rId3"/>
            <a:srcRect l="6047" t="3067" r="10794" b="4929"/>
            <a:stretch/>
          </p:blipFill>
          <p:spPr>
            <a:xfrm rot="6188400">
              <a:off x="511200" y="3946320"/>
              <a:ext cx="1300680" cy="141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" name="Picture 4" descr="https://fsd.kopilkaurokov.ru/uploads/user_file_5640ab80275f9/khimiialyk-rieaktsiialardyn-tiptieri_8.jpeg"/>
            <p:cNvPicPr/>
            <p:nvPr/>
          </p:nvPicPr>
          <p:blipFill>
            <a:blip r:embed="rId4"/>
            <a:srcRect l="6047" t="3067" r="10794" b="4929"/>
            <a:stretch/>
          </p:blipFill>
          <p:spPr>
            <a:xfrm rot="3357000">
              <a:off x="480600" y="5384520"/>
              <a:ext cx="1300680" cy="1418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5" name="Группа 6"/>
          <p:cNvGrpSpPr/>
          <p:nvPr/>
        </p:nvGrpSpPr>
        <p:grpSpPr>
          <a:xfrm>
            <a:off x="6701760" y="113760"/>
            <a:ext cx="2435040" cy="7030080"/>
            <a:chOff x="6701760" y="113760"/>
            <a:chExt cx="2435040" cy="7030080"/>
          </a:xfrm>
        </p:grpSpPr>
        <p:pic>
          <p:nvPicPr>
            <p:cNvPr id="66" name="Picture 4" descr="https://fsd.kopilkaurokov.ru/uploads/user_file_5640ab80275f9/khimiialyk-rieaktsiialardyn-tiptieri_8.jpeg"/>
            <p:cNvPicPr/>
            <p:nvPr/>
          </p:nvPicPr>
          <p:blipFill>
            <a:blip r:embed="rId5"/>
            <a:srcRect l="6047" t="3067" r="10794" b="4929"/>
            <a:stretch/>
          </p:blipFill>
          <p:spPr>
            <a:xfrm rot="6188400">
              <a:off x="6955200" y="227880"/>
              <a:ext cx="1748880" cy="190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Picture 4" descr="https://fsd.kopilkaurokov.ru/uploads/user_file_5640ab80275f9/khimiialyk-rieaktsiialardyn-tiptieri_8.jpeg"/>
            <p:cNvPicPr/>
            <p:nvPr/>
          </p:nvPicPr>
          <p:blipFill>
            <a:blip r:embed="rId6"/>
            <a:srcRect l="6047" t="3067" r="10794" b="4929"/>
            <a:stretch/>
          </p:blipFill>
          <p:spPr>
            <a:xfrm rot="6188400">
              <a:off x="7134480" y="2216880"/>
              <a:ext cx="1748880" cy="190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Picture 4" descr="https://fsd.kopilkaurokov.ru/uploads/user_file_5640ab80275f9/khimiialyk-rieaktsiialardyn-tiptieri_8.jpeg"/>
            <p:cNvPicPr/>
            <p:nvPr/>
          </p:nvPicPr>
          <p:blipFill>
            <a:blip r:embed="rId7"/>
            <a:srcRect l="6047" t="3067" r="10794" b="4929"/>
            <a:stretch/>
          </p:blipFill>
          <p:spPr>
            <a:xfrm rot="6188400">
              <a:off x="7213680" y="4060080"/>
              <a:ext cx="1300680" cy="1419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" name="Picture 4" descr="https://fsd.kopilkaurokov.ru/uploads/user_file_5640ab80275f9/khimiialyk-rieaktsiialardyn-tiptieri_8.jpeg"/>
            <p:cNvPicPr/>
            <p:nvPr/>
          </p:nvPicPr>
          <p:blipFill>
            <a:blip r:embed="rId8"/>
            <a:srcRect l="6047" t="3067" r="10794" b="4929"/>
            <a:stretch/>
          </p:blipFill>
          <p:spPr>
            <a:xfrm rot="3357000">
              <a:off x="7182720" y="5497920"/>
              <a:ext cx="1300680" cy="1419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0" name="Группа 11"/>
          <p:cNvGrpSpPr/>
          <p:nvPr/>
        </p:nvGrpSpPr>
        <p:grpSpPr>
          <a:xfrm>
            <a:off x="4613760" y="113760"/>
            <a:ext cx="2435400" cy="7030080"/>
            <a:chOff x="4613760" y="113760"/>
            <a:chExt cx="2435400" cy="7030080"/>
          </a:xfrm>
        </p:grpSpPr>
        <p:pic>
          <p:nvPicPr>
            <p:cNvPr id="71" name="Picture 4" descr="https://fsd.kopilkaurokov.ru/uploads/user_file_5640ab80275f9/khimiialyk-rieaktsiialardyn-tiptieri_8.jpeg"/>
            <p:cNvPicPr/>
            <p:nvPr/>
          </p:nvPicPr>
          <p:blipFill>
            <a:blip r:embed="rId9"/>
            <a:srcRect l="6047" t="3067" r="10794" b="4929"/>
            <a:stretch/>
          </p:blipFill>
          <p:spPr>
            <a:xfrm rot="6188400">
              <a:off x="4867200" y="227880"/>
              <a:ext cx="1748880" cy="1908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Picture 4" descr="https://fsd.kopilkaurokov.ru/uploads/user_file_5640ab80275f9/khimiialyk-rieaktsiialardyn-tiptieri_8.jpeg"/>
            <p:cNvPicPr/>
            <p:nvPr/>
          </p:nvPicPr>
          <p:blipFill>
            <a:blip r:embed="rId10"/>
            <a:srcRect l="6047" t="3067" r="10794" b="4929"/>
            <a:stretch/>
          </p:blipFill>
          <p:spPr>
            <a:xfrm rot="6188400">
              <a:off x="5046480" y="2216880"/>
              <a:ext cx="1748880" cy="1908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Picture 4" descr="https://fsd.kopilkaurokov.ru/uploads/user_file_5640ab80275f9/khimiialyk-rieaktsiialardyn-tiptieri_8.jpeg"/>
            <p:cNvPicPr/>
            <p:nvPr/>
          </p:nvPicPr>
          <p:blipFill>
            <a:blip r:embed="rId11"/>
            <a:srcRect l="6047" t="3067" r="10794" b="4929"/>
            <a:stretch/>
          </p:blipFill>
          <p:spPr>
            <a:xfrm rot="6188400">
              <a:off x="5125680" y="4059720"/>
              <a:ext cx="1300680" cy="141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Picture 4" descr="https://fsd.kopilkaurokov.ru/uploads/user_file_5640ab80275f9/khimiialyk-rieaktsiialardyn-tiptieri_8.jpeg"/>
            <p:cNvPicPr/>
            <p:nvPr/>
          </p:nvPicPr>
          <p:blipFill>
            <a:blip r:embed="rId12"/>
            <a:srcRect l="6047" t="3067" r="10794" b="4929"/>
            <a:stretch/>
          </p:blipFill>
          <p:spPr>
            <a:xfrm rot="3357000">
              <a:off x="5095080" y="5497920"/>
              <a:ext cx="1300680" cy="1419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5" name="Группа 16"/>
          <p:cNvGrpSpPr/>
          <p:nvPr/>
        </p:nvGrpSpPr>
        <p:grpSpPr>
          <a:xfrm>
            <a:off x="2237040" y="-5040"/>
            <a:ext cx="2435400" cy="7029720"/>
            <a:chOff x="2237040" y="-5040"/>
            <a:chExt cx="2435400" cy="7029720"/>
          </a:xfrm>
        </p:grpSpPr>
        <p:pic>
          <p:nvPicPr>
            <p:cNvPr id="76" name="Picture 4" descr="https://fsd.kopilkaurokov.ru/uploads/user_file_5640ab80275f9/khimiialyk-rieaktsiialardyn-tiptieri_8.jpeg"/>
            <p:cNvPicPr/>
            <p:nvPr/>
          </p:nvPicPr>
          <p:blipFill>
            <a:blip r:embed="rId13"/>
            <a:srcRect l="6047" t="3067" r="10794" b="4929"/>
            <a:stretch/>
          </p:blipFill>
          <p:spPr>
            <a:xfrm rot="6188400">
              <a:off x="2490480" y="109080"/>
              <a:ext cx="1748880" cy="1908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" name="Picture 4" descr="https://fsd.kopilkaurokov.ru/uploads/user_file_5640ab80275f9/khimiialyk-rieaktsiialardyn-tiptieri_8.jpeg"/>
            <p:cNvPicPr/>
            <p:nvPr/>
          </p:nvPicPr>
          <p:blipFill>
            <a:blip r:embed="rId14"/>
            <a:srcRect l="6047" t="3067" r="10794" b="4929"/>
            <a:stretch/>
          </p:blipFill>
          <p:spPr>
            <a:xfrm rot="6188400">
              <a:off x="2669760" y="2097720"/>
              <a:ext cx="1748880" cy="1908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" name="Picture 4" descr="https://fsd.kopilkaurokov.ru/uploads/user_file_5640ab80275f9/khimiialyk-rieaktsiialardyn-tiptieri_8.jpeg"/>
            <p:cNvPicPr/>
            <p:nvPr/>
          </p:nvPicPr>
          <p:blipFill>
            <a:blip r:embed="rId15"/>
            <a:srcRect l="6047" t="3067" r="10794" b="4929"/>
            <a:stretch/>
          </p:blipFill>
          <p:spPr>
            <a:xfrm rot="6188400">
              <a:off x="2748960" y="3940560"/>
              <a:ext cx="1300680" cy="141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" name="Picture 4" descr="https://fsd.kopilkaurokov.ru/uploads/user_file_5640ab80275f9/khimiialyk-rieaktsiialardyn-tiptieri_8.jpeg"/>
            <p:cNvPicPr/>
            <p:nvPr/>
          </p:nvPicPr>
          <p:blipFill>
            <a:blip r:embed="rId16"/>
            <a:srcRect l="6047" t="3067" r="10794" b="4929"/>
            <a:stretch/>
          </p:blipFill>
          <p:spPr>
            <a:xfrm rot="3357000">
              <a:off x="2718360" y="5378760"/>
              <a:ext cx="1300680" cy="1419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G:\01. Сайт .Архив\ИЗО и технология\Осенний лист с березками\afb5df9df43f4f157bb31811cd50cd60.jpg"/>
          <p:cNvPicPr/>
          <p:nvPr/>
        </p:nvPicPr>
        <p:blipFill>
          <a:blip r:embed="rId1"/>
          <a:srcRect l="0" t="6397" r="0" b="20030"/>
          <a:stretch/>
        </p:blipFill>
        <p:spPr>
          <a:xfrm rot="640800">
            <a:off x="5219280" y="1557360"/>
            <a:ext cx="2286000" cy="28796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" descr="G:\01. Сайт .Архив\ИЗО и технология\Осенний лист с березками\6aee9cd1615b873f589f87e65454973e.jpg"/>
          <p:cNvPicPr/>
          <p:nvPr/>
        </p:nvPicPr>
        <p:blipFill>
          <a:blip r:embed="rId2"/>
          <a:stretch/>
        </p:blipFill>
        <p:spPr>
          <a:xfrm>
            <a:off x="1635120" y="1268280"/>
            <a:ext cx="2421000" cy="302436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0" y="2941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6" descr="Эмблема круг"/>
          <p:cNvPicPr/>
          <p:nvPr/>
        </p:nvPicPr>
        <p:blipFill>
          <a:blip r:embed="rId3"/>
          <a:stretch/>
        </p:blipFill>
        <p:spPr>
          <a:xfrm>
            <a:off x="2627280" y="5157720"/>
            <a:ext cx="770040" cy="7556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4072680" y="5012640"/>
            <a:ext cx="26906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99"/>
                </a:solidFill>
                <a:latin typeface="Arial"/>
                <a:ea typeface="Times New Roman"/>
              </a:rPr>
              <a:t>сайт «Школа АБВ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4"/>
              </a:rPr>
              <a:t>www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5"/>
              </a:rPr>
              <a:t>.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6"/>
              </a:rPr>
              <a:t>shkola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7"/>
              </a:rPr>
              <a:t>-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8"/>
              </a:rPr>
              <a:t>abv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9"/>
              </a:rPr>
              <a:t>.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10"/>
              </a:rPr>
              <a:t>r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ea typeface="Times New Roman"/>
                <a:hlinkClick r:id="rId11"/>
              </a:rPr>
              <a:t>https://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ea typeface="Times New Roman"/>
                <a:hlinkClick r:id="rId12"/>
              </a:rPr>
              <a:t>vk.com/shkola_abv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9-11T18:51:21Z</dcterms:created>
  <dc:creator>Елена Берюхова</dc:creator>
  <dc:description/>
  <dc:language>en-US</dc:language>
  <cp:lastModifiedBy>Берюхов</cp:lastModifiedBy>
  <dcterms:modified xsi:type="dcterms:W3CDTF">2025-09-19T13:35:42Z</dcterms:modified>
  <cp:revision>4</cp:revision>
  <dc:subject/>
  <dc:title>Слайд 1</dc:title>
</cp:coreProperties>
</file>